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F52-5C12-4E66-BA76-4AA096A1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C78-F92A-4627-BD39-6875B11F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E79-A50B-41C7-B4D5-51332AEF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218-AA58-4199-AC44-3FE67578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6FA-B11D-42A7-9702-39213EDA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C7C-05D9-4C6B-B638-AABD2D71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D87-37B6-409C-9F69-D7B74DBE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0F7B-D3BA-4024-9CDE-84E68CF2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8F2-3661-4035-82D0-8D3F3577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918-8E13-414E-8C57-99D4EB10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011-3411-4902-B188-5ED5DCAB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18E-3587-42E2-A762-EBDAB746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D41A-8318-48C7-9DB7-1ADB1F5D3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045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0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st officially released vegetable varieties and associated technologies in rotation, relay, mixed c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egetables already released by the Tanzanian gover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HORT C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itiate partnerships with stakeholders especially farmer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etter ensures relevance with what we should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ITA (T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pacity building in crucial areas (field agents, nutrition) in preparation for participation in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ed skilled and knowledgeable partners in component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earch groups of the specific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xtension of animal feeding technologies that lead to rapid fattening or increased milk/meat/egg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ill create a link between the project and the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strict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raining farmer groups to produce quality declared (certified) s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aking seed of superior varieties available 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SCI, District agents, CG centers  invol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uilding networks/relationship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ignment of SI technologies with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y market opportun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gional traders, PPP, 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mmunication, technology transfer and outreach strategy (field days, 8-8, seedfairs, on-farm demos, leaflets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ach thousands of people; supporting the project stimulate interest of stakeholders about project 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ational programmes, supported by IITA/local resear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dentification of potential students (selection and placement of MSc. And PhD stud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uman capital; sustainable program operations; 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ject partners, CRS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enhancing recipes in local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ready being done by AVRDC, requires scaling 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st-harvest technologies for longer and safer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crease food supply/safety and improve 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ivate sector, TFNC, IITA, 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dense varieties (eg. Fortified maize varieties, iron-reach mung-bean, protein rich soy bean, vitamin-rich vegetab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ptimization of components of systems intensification. Improve nutrient level of vulnerable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 especially ICRISAT, ILRI, AVRDC. Linkages with HarvestPlus, Peanut CS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994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0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rticipatory Diagnosis of opportunities for systems intensification; Farmer-identified priorities for 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 identify the best local opportunities for intensifying local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utreach partners, farmers and other 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ush-pull technique for  stem borer control and forage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n be done together with variety evaluation; integration of livestock and 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LRI, CIAT, NAR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ication of networks that support knowledge pro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 know who potential partners are loc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, SANREM CRS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ppropriate and safe soil, water and pest management options for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-adapt with farmers available soil, water and pest management technologies to boost current vegetable productivity in a cereal-vegetable-livestock system contex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CIAT, IITA, ILR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7:06:57Z</dcterms:created>
  <dc:creator>cojiewo</dc:creator>
  <dc:description/>
  <dc:language>en-US</dc:language>
  <cp:lastModifiedBy>eleborgne</cp:lastModifiedBy>
  <dcterms:modified xsi:type="dcterms:W3CDTF">2012-02-08T11:28:45Z</dcterms:modified>
  <cp:revision>14</cp:revision>
  <dc:subject/>
  <dc:title>Slide 1</dc:title>
</cp:coreProperties>
</file>